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3810-F8F6-4D61-824F-63E79A728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ED2D-6F33-4C67-8F55-A661C2169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7B17-02B9-45F4-998F-08CB2BDC0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D8C5-3095-469F-849C-35B388F8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2AD4-3B79-4F1B-BA6B-30573803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624-273B-4C17-9DEC-0DCBF445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C3E4-D7FD-47A1-9A72-CF4E8452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15D6-1D9D-43EF-9C2C-04BD8161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278-0F1E-4C97-982B-10613FC8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B634-0CA6-4878-B79A-AF93EF2F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F38B-939D-402F-9B55-99AFA064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0B2-4B6A-4D7A-AA66-0105608B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C0E-FB88-4314-AFDC-00B134F0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6FB6-F023-4C3C-BFBE-E642672F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C9D-4B0E-45C8-A592-F8C1631A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0BC1-130C-45BD-B42C-23D7286F3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6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6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um Sheik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91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Yo soy Anum. Tengo catorce años. Yo soy feliz y emocionada. Vivo en New York City. Tengo dos hermanas. Amo alimento y voleibo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38862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ual Burger King son tu en? Yo puedo veni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327672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No. Yo soy rapida. Nosotras estamos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n Burger King ahora mismo! Ellas quieren comer hela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                        An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iero alimento!! Donde esta Naimah? Ella es lent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45720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¡Buenos días, amiga bonita! ¿cómo estás? Nuestras amigas son aqui.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, gracias, Mireya y tu? Tu eres un hambrienta chika.                                                    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743200" y="60199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nada. Ella es también una chica loca. 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6"/>
          <p:cNvSpPr/>
          <p:nvPr/>
        </p:nvSpPr>
        <p:spPr>
          <a:xfrm>
            <a:off x="21337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Photo on 2011-11-29 at 13.54.jpg"/>
          <p:cNvPicPr/>
          <p:nvPr/>
        </p:nvPicPr>
        <p:blipFill>
          <a:blip r:embed="rId5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1350361690236.jpg"/>
          <p:cNvPicPr/>
          <p:nvPr/>
        </p:nvPicPr>
        <p:blipFill>
          <a:blip r:embed="rId6"/>
          <a:stretch/>
        </p:blipFill>
        <p:spPr>
          <a:xfrm flipH="1">
            <a:off x="2133360" y="3809880"/>
            <a:ext cx="533160" cy="609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anumfakebook.jpg"/>
          <p:cNvPicPr/>
          <p:nvPr/>
        </p:nvPicPr>
        <p:blipFill>
          <a:blip r:embed="rId7"/>
          <a:stretch/>
        </p:blipFill>
        <p:spPr>
          <a:xfrm>
            <a:off x="2133720" y="2514600"/>
            <a:ext cx="457200" cy="546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naimahfakebook.jpg"/>
          <p:cNvPicPr/>
          <p:nvPr/>
        </p:nvPicPr>
        <p:blipFill>
          <a:blip r:embed="rId8"/>
          <a:stretch/>
        </p:blipFill>
        <p:spPr>
          <a:xfrm>
            <a:off x="2133720" y="3181320"/>
            <a:ext cx="457200" cy="53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mireyafakebook.jpg"/>
          <p:cNvPicPr/>
          <p:nvPr/>
        </p:nvPicPr>
        <p:blipFill>
          <a:blip r:embed="rId9"/>
          <a:stretch/>
        </p:blipFill>
        <p:spPr>
          <a:xfrm>
            <a:off x="2133720" y="4495680"/>
            <a:ext cx="457200" cy="4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4" descr="1350361690236.jpg"/>
          <p:cNvPicPr/>
          <p:nvPr/>
        </p:nvPicPr>
        <p:blipFill>
          <a:blip r:embed="rId10"/>
          <a:stretch/>
        </p:blipFill>
        <p:spPr>
          <a:xfrm flipH="1">
            <a:off x="2133360" y="510552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mireyafakebook.jpg"/>
          <p:cNvPicPr/>
          <p:nvPr/>
        </p:nvPicPr>
        <p:blipFill>
          <a:blip r:embed="rId11"/>
          <a:stretch/>
        </p:blipFill>
        <p:spPr>
          <a:xfrm>
            <a:off x="2133720" y="6019920"/>
            <a:ext cx="4572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um Sheik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7"/>
          <p:cNvSpPr/>
          <p:nvPr/>
        </p:nvSpPr>
        <p:spPr>
          <a:xfrm>
            <a:off x="152280" y="3581280"/>
            <a:ext cx="1676520" cy="91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Yo soy Anum. Tengo catorce años. Yo soy feliz y emocionada. Vivo en New York City. Tengo dos hermanas. Amo alimento y voleibo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7"/>
          <p:cNvSpPr/>
          <p:nvPr/>
        </p:nvSpPr>
        <p:spPr>
          <a:xfrm>
            <a:off x="2743200" y="38862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ual Burger King son tu en? Tienes                                                                                      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7"/>
          <p:cNvSpPr/>
          <p:nvPr/>
        </p:nvSpPr>
        <p:spPr>
          <a:xfrm>
            <a:off x="2743200" y="327672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Nosotras estamos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n Burger King ahora mismo! Ellas quieren comer hela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43434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                        An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2743200" y="45720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¡Buenos días, amiga bonita! ¿cómo estás?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cias, Mireya. Tu eres un hambrienta chika.                                                                       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7"/>
          <p:cNvSpPr/>
          <p:nvPr/>
        </p:nvSpPr>
        <p:spPr>
          <a:xfrm>
            <a:off x="2743200" y="60199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. Ella es también una chica loca. 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6"/>
          <p:cNvSpPr/>
          <p:nvPr/>
        </p:nvSpPr>
        <p:spPr>
          <a:xfrm>
            <a:off x="21337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3" descr="Photo on 2011-11-29 at 13.54.jpg"/>
          <p:cNvPicPr/>
          <p:nvPr/>
        </p:nvPicPr>
        <p:blipFill>
          <a:blip r:embed="rId5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1350361690236.jpg"/>
          <p:cNvPicPr/>
          <p:nvPr/>
        </p:nvPicPr>
        <p:blipFill>
          <a:blip r:embed="rId6"/>
          <a:stretch/>
        </p:blipFill>
        <p:spPr>
          <a:xfrm flipH="1">
            <a:off x="2133360" y="3809880"/>
            <a:ext cx="533160" cy="609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anumfakebook.jpg"/>
          <p:cNvPicPr/>
          <p:nvPr/>
        </p:nvPicPr>
        <p:blipFill>
          <a:blip r:embed="rId7"/>
          <a:stretch/>
        </p:blipFill>
        <p:spPr>
          <a:xfrm>
            <a:off x="2133720" y="2514600"/>
            <a:ext cx="457200" cy="546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naimahfakebook.jpg"/>
          <p:cNvPicPr/>
          <p:nvPr/>
        </p:nvPicPr>
        <p:blipFill>
          <a:blip r:embed="rId8"/>
          <a:stretch/>
        </p:blipFill>
        <p:spPr>
          <a:xfrm>
            <a:off x="2133720" y="3181320"/>
            <a:ext cx="457200" cy="539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mireyafakebook.jpg"/>
          <p:cNvPicPr/>
          <p:nvPr/>
        </p:nvPicPr>
        <p:blipFill>
          <a:blip r:embed="rId9"/>
          <a:stretch/>
        </p:blipFill>
        <p:spPr>
          <a:xfrm>
            <a:off x="2133720" y="4495680"/>
            <a:ext cx="457200" cy="48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4" descr="1350361690236.jpg"/>
          <p:cNvPicPr/>
          <p:nvPr/>
        </p:nvPicPr>
        <p:blipFill>
          <a:blip r:embed="rId10"/>
          <a:stretch/>
        </p:blipFill>
        <p:spPr>
          <a:xfrm flipH="1">
            <a:off x="2133360" y="510552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mireyafakebook.jpg"/>
          <p:cNvPicPr/>
          <p:nvPr/>
        </p:nvPicPr>
        <p:blipFill>
          <a:blip r:embed="rId11"/>
          <a:stretch/>
        </p:blipFill>
        <p:spPr>
          <a:xfrm>
            <a:off x="2133720" y="6019920"/>
            <a:ext cx="4572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8:28:47Z</dcterms:modified>
  <cp:revision>112</cp:revision>
  <dc:subject/>
  <dc:title>Profile</dc:title>
</cp:coreProperties>
</file>